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D1C1-458B-4894-B6EC-E960977375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1D77-0A71-4C7C-9073-D99D68832F8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75A4-411B-4F18-888C-DAB4FD78D29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CC84-07F6-4E41-90A0-F6BAEA28144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086F-D1E9-47BC-BBF8-E285363F595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801B-AA68-41A4-95A6-1918261C08B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FDF2-9E55-4DA3-B0C9-EA18C94389C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9D45-A5E9-48FE-B916-835A37BA9E8F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DB09-DB8F-42DA-B52F-6155ABA4977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DE37-6AB0-4DA2-9CD3-6ABF0F18ABA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C41A-8A5D-46E6-98D7-A70CF6F1545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1995-4056-4881-B64F-36C5E60B563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9122-D9F7-4597-9CFF-309B58855A5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2CE1-ABB5-4223-BC78-1FA0F0F1F93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50A5-2A3B-4573-B03F-3DD7979B4A2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10C2-C73E-4B93-8A0C-0B643719681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FF7-8472-4315-BC0E-02D4AB00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740-C905-49BF-8E77-09AF748C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84EFE-D5CE-4D91-9201-DAB5C5F4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757F5-7EA0-41B9-BCA2-1042E154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3BE2D-A512-4ED5-90FC-1068490B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EF25B-65D2-4096-BE08-42313FE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C7B76-5D27-43E2-8469-CA00F10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AAB47-055E-41F5-B52D-7B1C7B87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DA9B9-4F6A-4024-87DE-14DB08F7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058B8-CEBA-42DD-9F90-C50D42D4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16A2F-FC6D-44A9-BF31-62773877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29F19-C540-49C5-82F8-B3610BB2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1AD-A13E-413F-83E7-37E21967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A11A5-3A19-4F53-8260-98C92475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8EB41-D763-4C60-A5EF-0C21D7D4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3C66B-D3ED-4459-A31B-360C4DA3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C4B1E-84ED-445B-BD76-1FA6EB1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CCDFA-6416-4C0B-B2E0-23BEE4C9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905D4-5A78-4069-BF54-0D241E9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3F8C5-A0AB-4E2D-BEA3-A5E21E40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76F93-65ED-45EE-8753-1F00C5D2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CC3D0-CE8F-4088-B323-47B61549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4F30A-7FA4-4224-B116-C7ED2E0D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3D9-61D0-4A3E-861E-A76200FA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A35D5-4A9A-47A0-8E45-2265FD95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2CF0C-D643-4204-A2D8-05B921F9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7378F-6559-43EE-88B3-E61BF5F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82EEE-44DA-4E04-90ED-1B3612E1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4F144-1D08-4125-AA7B-877FA391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479DB-0D9A-46AE-9F83-7C470C3D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D422-3DD2-4E0D-B4E3-4E03A885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AF3FF-61CA-496D-8355-42FB887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12637-FC37-48DB-A808-062F49C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F021F-7F42-4470-8846-90BBA00D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5CD9-79E0-4F5D-8FF4-145950F8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7DF31-C7ED-4BE4-8069-0151392A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6B7D8-EAF8-4909-8B54-0AE46DC1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9E433-9E49-42CE-BC1A-75B8CC4B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3FC09-8FCE-4BB9-8CA6-18E9B6C4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08126-4238-4FB8-B608-251F81E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FF389-A2D8-427D-8F9B-067108D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157E3-9337-405E-BBA2-6FDD04F3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D877F-BC4B-41BF-B94F-A17537B5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C746B-8D25-4819-8517-8923FED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8B06E-9317-48FF-8EDE-7A746833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5F2F-B64B-4510-83BB-1F88BB7F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343C4-F0E3-44A8-9DA5-6B274D74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6D871-EEE4-423F-A874-A46DDF63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F87E3-85F4-44FD-8895-A32CE5A9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C5E55-0E9E-47B3-B549-81FF06E7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5B511-D74F-4EB7-8844-6FE48348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80B96-5FC7-4D1B-8F66-80703D35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31BAC-C77F-499A-9278-AAD3B324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31F9E-AB48-4C89-84AE-C9C1CCCB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4CFF6-4309-4347-BE84-E8FA10DE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B005E-D1E3-4E6D-ACCF-08D9C984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4C2-3D78-4621-9D0C-B67604F6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D1870-175B-407C-9C44-31FC934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06EBB-5D9C-4216-A949-A5EE3E18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C8C6D-28B8-4D05-BEF6-65A6313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977CE-2777-4DCC-820D-280E98B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CD3E2-B8BA-4CDE-A847-CD9826EC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5643D-7582-470E-A694-F1C1B80F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8D6C7-7222-4AD4-B1DA-50F611D9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D1021-E64E-4645-80E4-8910E75F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BAB17-9B9A-4871-B50B-4AC3D725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1C60C-99AA-45B6-B45F-98BFF775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5397-DEC1-4673-94E7-28B3D92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CB254-254B-4CA0-8730-24719FBB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0108F-3A43-49E5-8322-E0A33605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80532-D964-456C-A9AC-374D6998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BF6AF-E286-4A86-9335-F67B6A8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D4DE2-23D9-4582-9BF5-369DBF80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14F5A-D369-4BCD-B642-BBD9DAA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96811-FE14-49DC-819F-3718B68C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4D578-330D-4267-9860-B992E644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068B6-D945-433E-BFC2-3EEBE250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B3A33-9DDD-4E72-AA77-935B76F8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6A71-BC7B-4CE8-8F8A-257F4A8F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FC8C9-113A-43E0-BFE1-6EDACED1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18F91-5217-4846-BF8E-864BFCF1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E894C-C2C7-46F7-B5C0-72A14A92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EB5B2-25FE-4A7E-9BE3-766627C4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956B4-D7EE-40D5-9F52-4B4091D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8749B-FBFC-4F14-87F6-2BD97D76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E78D5-9CAD-43DD-834B-BE1C21A2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AA9CA-0037-4BB0-84D9-D31993D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9682D-44E8-4BB0-9EDD-F702021D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9E49B-21CB-4C45-9324-D555E7BD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26F6-0726-4254-B55F-D4FA86B1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BDFFE-3624-4C2F-82B2-A924A262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F775-9A33-4D34-9FE8-422091F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8D7-8CAA-4F3F-BE88-46FF1D53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005D-4C66-43CC-AF58-6415B59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337-9CB1-47D5-B43C-69B4928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6BAF-F29D-4DBF-A0A2-4C4D5DF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A3FF-5BDC-402E-8C12-DF383218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9686-883E-4B3E-BD78-1131C0B4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DA01-47A9-4742-8088-C6EE6722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8778-BE60-4CAA-86A4-00FA63B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D59B-3F4F-4C1F-8759-07A5DF8F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BDF9-93EE-446C-9EBA-9E95326A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9F55-416F-4686-B152-5BF06992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D6B-6FCD-44CB-AD5E-A7B2F824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1CC9-BF87-47E4-B7FB-709ED23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7B8E-AE14-41DE-88B9-5B17575A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F950-1E4A-4FA0-AFA0-F9B0C9E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DEF4-195B-45D6-8C64-C1D29E8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FAB9-09EC-41EB-8D1F-1EC5A5D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0CC1-9E36-4237-9EE8-A25B9354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A6A8-6D2B-46B4-89B8-2631D9C2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70AE-421A-480C-872D-0F49D6AE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564D-F410-461A-AC85-A5388593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86FF-C5B1-4E30-BC8A-1534806E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4EA-E482-4607-B466-29D5B465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85A6-FB54-4C08-A2C6-4774D64E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4DF5-FF5B-4EF5-A551-BE320CF2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A8FC9-9376-49A0-B71F-AECBCD91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D2DE-FAF3-4C58-98B5-FEBCF583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0D34-5D60-41C1-84B7-168C28BD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F37B-1B70-4166-A880-C66DAD0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AC58-C59E-4808-8555-332AEA20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5E23-6F61-4636-BB09-EF81396B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C2D64-DF0A-45FC-846D-47D337F0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9C3BD-0908-46E0-B2D6-D80DC64E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BD7-84C3-4FB3-979D-18E3B7EE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9DD57-997D-4AC9-BDF0-37FA5BED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81FD8-A614-4B05-8545-CF967974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B2B4-63D1-40F4-B070-AF298C33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DFAF3-DDF9-48C3-9A5F-882A8116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24554-D5AC-4351-B8BD-F11D216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AEF1-66E0-4DA6-8CF5-A6C504F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D508C-8080-4994-AF6E-D18B8BF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BC150-909E-4F3D-B71E-7B910A9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AAA56-0F3C-4A0C-A9A3-6292B40A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64E1-71B6-4D8A-8036-4C21BBA6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79D-01A8-4350-BF4B-729D87FF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94F2-4ED5-4DCB-82EB-F4821E45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175C2-2732-4B55-BC12-87164D45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3D0A3-CF90-4367-A23C-C43E00F8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165E7-64F5-4060-9B88-DA844C53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1D54D-4EF2-4CCD-931E-5AEA4B17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F221C-DD05-4E68-83C0-56E318F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0186-369A-4335-91E1-94BD6ADF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C8AC1-6503-448B-9F80-9BD2EEC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F52B-688A-40EF-90D5-BA03FDF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D44B9-26C1-4FBD-945E-0C66A87F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3C9-2B93-4A11-AB94-C40F4C04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DBE7E-BAAE-403A-A75A-AA6AE38A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2B59-6B68-4887-AF9F-60A07ABE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1751-7E20-45BA-9634-C5B73126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FD21-004B-4080-9088-DF321FDB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DB97-B96C-4A86-8AAE-F6B1BFB5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1A4CD-E924-484F-9FE0-DD95574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E6AC-8E29-4463-B4FD-670E363F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9D72E-935F-4A6F-8A32-127DB06D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E3F1A-7F63-4E29-978E-70EB012A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007C0-38FF-4EC1-892D-53BF6D7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1CE-E8E5-4B4E-8E54-AC25862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DA44B-4145-485B-BB93-6164E83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867BC-37FD-40EF-B20E-37E1F27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D3880-0823-4F69-A826-856683B7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644EC-7056-4F36-BA9A-FC55B8FC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2049A-696C-4856-8A3F-2DE60B48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12FF-FB1C-4E38-8A15-0A4C13FE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CA1AF-457B-4C4A-AF41-7452E050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7270-BBCC-462F-8125-CC0C155A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15EB-A982-4463-8478-E53A9A0B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0EEF0-73DE-47E7-BA17-761D316E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393-127E-4208-A52E-1EFB99DA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C1C9D-4F83-48CC-97C6-5550A7F2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08569-5E46-45AD-9FF4-5C2D0D2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12FB-17B1-46CA-A314-491C31B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BEF70-CA31-470F-AAF3-0C69263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11603-C5F7-40AA-9BEE-471E31BC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56940-07EA-4062-B25C-79948C1D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572C4-2ED5-4932-8361-8812D77A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40FBF-B7CE-4F8C-9225-9B671743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2F2E8-63FD-4BBF-A3B7-D293121B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DE525-1847-49D7-9901-B9EB82AD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5f8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5f8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B30D-17B9-4AA2-9CD2-4BA8F792DF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5CFD-6EAD-4F1B-81F8-D25142164C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3AF1-B93C-423D-87D2-D3CB29D9AC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FEA0-D442-4411-AEFA-90990189FF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6EC-75BE-4870-B8AA-D330464C84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82C6-19CA-44D3-AF98-6DE4D2791B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421E-2D76-418B-A902-4DC55EA54F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5f8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5f8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813-C726-4D8D-9A8D-635C24D186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AA41-1E0F-4703-9E3C-92592AC85D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7798-8E82-43C6-B3B2-88986B9B99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2830-74C5-4936-A2A4-C398409115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DD67-F59B-4FD0-BB84-EDD656ACB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6A0-CA5E-4E95-94B2-42520E775C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0099-4666-4691-94E1-4E494A70E1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6CA1-33EC-4479-A4E4-B73D1FD082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ikgrig@gmail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4648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2400" spc="-1" strike="noStrike">
                <a:solidFill>
                  <a:srgbClr val="ffffff"/>
                </a:solidFill>
                <a:latin typeface="Garamond"/>
              </a:rPr>
              <a:t>Հանքարդյունաբերություն և սոցիալ-տնտեսական զարգացում. Հայաստանի ընտրուղիները</a:t>
            </a:r>
            <a:br>
              <a:rPr sz="2400"/>
            </a:br>
            <a:r>
              <a:rPr b="1" lang="hy-AM" sz="2400" spc="-1" strike="noStrike">
                <a:solidFill>
                  <a:srgbClr val="ffffff"/>
                </a:solidFill>
                <a:latin typeface="Garamond"/>
              </a:rPr>
              <a:t>Մեկօրյա համաժողով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400"/>
            </a:br>
            <a:r>
              <a:rPr b="1" lang="hy-AM" sz="1200" spc="-1" strike="noStrike">
                <a:solidFill>
                  <a:srgbClr val="ffffff"/>
                </a:solidFill>
                <a:latin typeface="Garamond"/>
              </a:rPr>
              <a:t>Ուրբաթ, Նոյեմբեր 30, 2012, 9:30-17:3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Հանքարդյունաբերության դերը Հայաստանի տնտեսության մեջ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1" lang="ru-RU" sz="4400" spc="-1" strike="noStrike">
                <a:solidFill>
                  <a:srgbClr val="161616"/>
                </a:solidFill>
                <a:latin typeface="Times Armenian"/>
              </a:rPr>
              <a:t>	</a:t>
            </a:r>
            <a:r>
              <a:rPr b="0" lang="ru-RU" sz="4400" spc="-1" strike="noStrike">
                <a:solidFill>
                  <a:srgbClr val="161616"/>
                </a:solidFill>
                <a:latin typeface="Times Armeni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Էրիկ Գրիգորյան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          </a:t>
            </a:r>
            <a:r>
              <a:rPr b="0" lang="en-US" sz="1800" spc="-1" strike="noStrike" u="sng">
                <a:solidFill>
                  <a:srgbClr val="00ff99"/>
                </a:solidFill>
                <a:uFillTx/>
                <a:latin typeface="Times Armenian"/>
                <a:hlinkClick r:id="rId1"/>
              </a:rPr>
              <a:t>erikgrig@gmail.com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        </a:t>
            </a:r>
            <a:r>
              <a:rPr b="0" lang="hy-AM" sz="1800" spc="-1" strike="noStrike">
                <a:solidFill>
                  <a:srgbClr val="ffffff"/>
                </a:solidFill>
                <a:latin typeface="Times Armenian"/>
              </a:rPr>
              <a:t>Հեռ. </a:t>
            </a:r>
            <a:r>
              <a:rPr b="0" lang="en-US" sz="1800" spc="-1" strike="noStrike">
                <a:solidFill>
                  <a:srgbClr val="ffffff"/>
                </a:solidFill>
                <a:latin typeface="Times Armenian"/>
              </a:rPr>
              <a:t>+37455667707</a:t>
            </a:r>
            <a:endParaRPr b="1" lang="en-US" sz="18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Ն</a:t>
            </a:r>
            <a:r>
              <a:rPr b="1" lang="ru-RU" sz="4000" spc="-1" strike="noStrike">
                <a:solidFill>
                  <a:srgbClr val="f3f7fb"/>
                </a:solidFill>
                <a:latin typeface="Garamond"/>
              </a:rPr>
              <a:t>երկա իրավիճակ- աղտոտում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ՎԾ տվյալներով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արտադրված թափոնների 99.66% 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բաժին է ընկնում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Սյունիք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իմարզին, որը չի հարկվում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մենացածր դրույքաչաի դեպքում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 առնվազն 10 մլրդ. դրամ գումար, այսինքն 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մոտավորապես այն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քան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, որքան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յաստանում </a:t>
            </a:r>
            <a:r>
              <a:rPr b="0" lang="en-US" sz="3200" spc="-1" strike="noStrike">
                <a:solidFill>
                  <a:srgbClr val="f3f7fb"/>
                </a:solidFill>
                <a:latin typeface="Garamond"/>
              </a:rPr>
              <a:t>2010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վաքագրված բոլոր բնապահպանական և բնօգտագործման վճարները միասին վերցված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Ն</a:t>
            </a:r>
            <a:r>
              <a:rPr b="1" lang="ru-RU" sz="4000" spc="-1" strike="noStrike">
                <a:solidFill>
                  <a:srgbClr val="f3f7fb"/>
                </a:solidFill>
                <a:latin typeface="Garamond"/>
              </a:rPr>
              <a:t>երկա իրավիճակ- աղտոտում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Մ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թնոլորտային օդի աղտոտման ծավալները հաշվարկվում են ՍԹԽ վրա հիմնված բանաձևերով, ինչի հետևանքով օրինակ Ալավերդու պղնձաձուլարանի ծծմբի երկօքսիդի արտանետումերի նույն ծավալի դեպքում վճարում են ավելի քիչ գումա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Հայաստանում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SO2 </a:t>
            </a:r>
            <a:r>
              <a:rPr b="0" lang="en-US" sz="3200" spc="-1" strike="noStrike">
                <a:solidFill>
                  <a:srgbClr val="f3f7fb"/>
                </a:solidFill>
                <a:latin typeface="Garamond"/>
              </a:rPr>
              <a:t>տոննա 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1800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դրամ, </a:t>
            </a:r>
            <a:r>
              <a:rPr b="0" lang="en-US" sz="3200" spc="-1" strike="noStrike">
                <a:solidFill>
                  <a:srgbClr val="f3f7fb"/>
                </a:solidFill>
                <a:latin typeface="Garamond"/>
              </a:rPr>
              <a:t>սակայն վնասը 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1400-39000 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եվրո </a:t>
            </a:r>
            <a:r>
              <a:rPr b="0" lang="en-US" sz="3200" spc="-1" strike="noStrike">
                <a:solidFill>
                  <a:srgbClr val="f3f7fb"/>
                </a:solidFill>
                <a:latin typeface="Garamond"/>
              </a:rPr>
              <a:t>(Clean air for Europe data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Առաջարկներ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Լեռնամետալուրգիայի թափոնները պետք է դասակարգվեն և մտցվեն հարկման դաշտ</a:t>
            </a: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` պահովելով լրացուցիչ ֆինանսական միջոցներ և հանդիսանալով ռեսուրսների ռացիոնալ օգտագործման գործիք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Ռոյալթիները պետք է ոչ թե փոխարինեն բնօգտագործման վճարներին, այլ` լրացնեն, առնվազն առաջիկա տարիների համար այս երկու վճարատեսակները պետք է հանդես գան միասին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Առաջարկներ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Բնօգտագործման վճարների դրույքաչափերը պետք է հիմնված լինեն ռեսուրսների շուկայական գների վրա, իսկ դրանց բացակայության դեպքում` էկոլոգո-տնտեսական հաշվարկների հիման վրա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Բնապահպանական վճարների դրույքաչափերը պետք է հիմնված լինեն շրջակա միջավայրին, մարդու առողջությանը հասցված իրական վնասի գնահատման հիման վրա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400" spc="-1" strike="noStrike">
                <a:solidFill>
                  <a:srgbClr val="f3f7fb"/>
                </a:solidFill>
                <a:latin typeface="Garamond"/>
              </a:rPr>
              <a:t>Առաջարկ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նքանյութի, խտանյութը, ձուլվածքը և բնական ռեսուրսից ստացված վերջնական ապրանքը արտահանվելիս պարտադիր պետք է մաքսազերծվեն` ընդ որում արտադրական ամեն հաջորդ փուլի դեպքում ավելի ցածր դրույքաչափով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Աղտոտման ծավալների հաշվարկի փոփոխություն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Շնորհակալություն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ուշադրության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մա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7fb"/>
                </a:solidFill>
                <a:latin typeface="Garamond"/>
              </a:rPr>
              <a:t>Տնտեսական մեխանիզմները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Բնապահպանական վճարների մասով` օդի </a:t>
            </a: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3f7fb"/>
                </a:solidFill>
                <a:latin typeface="Garamond"/>
              </a:rPr>
              <a:t>շարժական և անշարժ աղբյուրներից</a:t>
            </a: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f3f7fb"/>
                </a:solidFill>
                <a:latin typeface="Garamond"/>
              </a:rPr>
              <a:t>,</a:t>
            </a: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 ջրի աղտոտւմ, շրջակա միջավայրին վնաս պատճառող ապրանքներ</a:t>
            </a:r>
            <a:r>
              <a:rPr b="0" lang="en-US" sz="2800" spc="-1" strike="noStrike">
                <a:solidFill>
                  <a:srgbClr val="f3f7fb"/>
                </a:solidFill>
                <a:latin typeface="Garamond"/>
              </a:rPr>
              <a:t> արտադրություն և օգտագործում</a:t>
            </a: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, թափոնների տեղադրում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Բ</a:t>
            </a: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նօգտգագործման վճարների մասով` ստորերկրյա բնական ռեսուրսների, ջրերի և կենսառեսուրսների օգտագործում</a:t>
            </a:r>
            <a:r>
              <a:rPr b="0" lang="en-US" sz="2800" spc="-1" strike="noStrike">
                <a:solidFill>
                  <a:srgbClr val="f3f7fb"/>
                </a:solidFill>
                <a:latin typeface="Garamond"/>
              </a:rPr>
              <a:t>, </a:t>
            </a: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ռոյալթիներ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400" spc="-1" strike="noStrike">
                <a:solidFill>
                  <a:srgbClr val="f3f7fb"/>
                </a:solidFill>
                <a:latin typeface="Garamond"/>
              </a:rPr>
              <a:t>Հավաքագրման տվյալ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2012 թվականի հունվար-հուլիսին 13.3 մլրդ դրամ բնօգտագործման և բնապահպանական վճարներ` կազմելով հարկերի և տուրքերի 3.3%-ը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Նախորդ տարվա նույն ժամանակահատվածի համեմատ աճել են 81.3%-ո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2800" spc="-1" strike="noStrike">
                <a:solidFill>
                  <a:srgbClr val="f3f7fb"/>
                </a:solidFill>
                <a:latin typeface="Garamond"/>
              </a:rPr>
              <a:t>Պայմանավորված «Բնապահպանական և բնօգտագործման վճարների մասին» ՀՀ օրենքում, ինչպես նաև զուգահեռաբար «Ընդերքի մասին» ՀՀ օրենսգրքում կատարված փոփոխություններով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7fb"/>
                </a:solidFill>
                <a:latin typeface="Garamond"/>
              </a:rPr>
              <a:t>Ռոյալթի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Բազմաթիվ երկրներում բնօգտագործման վճարը կիրառվում է ռոյալթիի հետ մեկտեղ, որտեղ բնօգտագործման վճարը համարվում է ռեսուրսի օգտագործման վճար, իսկ ռոյալթին` գերշահույթներ ապահովող ոլորտից վճարվող լրացուցիչ հարկատեսակ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7fb"/>
                </a:solidFill>
                <a:latin typeface="Garamond"/>
              </a:rPr>
              <a:t>Հայասանում միայն Ռոյալթի, որը չի խրախուսում ռացիոնալ օգտագործումը, էական չէ ինչքան ռեսուրս են արդյունահանում, էական է հասույթի գինը 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7fb"/>
                </a:solidFill>
                <a:latin typeface="Garamond"/>
              </a:rPr>
              <a:t>Օգուտ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Ուղղակի և անուղղակի հարկեր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Ս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ոցիալական փոփոխություններ և աշխատավարձե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Տ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նտեսության մեջ բազմապատկիչի դեր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րակից ճյուղերի զարգացման միտումնե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7fb"/>
                </a:solidFill>
                <a:latin typeface="Garamond"/>
              </a:rPr>
              <a:t>Վնասներ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Շրջակա միջավայրին հասցված վնաս, որը հետագայում ծանրանում է հանրության վրա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Ռ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եսուրսների գերշահագործում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ռողջապահապան խնդիրներ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Գ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յուղատնտեսության և տուրիզմի զարգացման  խոչընդոտնե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Ն</a:t>
            </a:r>
            <a:r>
              <a:rPr b="1" lang="ru-RU" sz="4000" spc="-1" strike="noStrike">
                <a:solidFill>
                  <a:srgbClr val="f3f7fb"/>
                </a:solidFill>
                <a:latin typeface="Garamond"/>
              </a:rPr>
              <a:t>երկա իրավիճակ- օգտագործում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</a:t>
            </a: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նքարդյունաբերության ոլորտի արտոնյալ վիճակ, ինչը նշանակում է, որ հասարակության բացառիկ սեփականությունը հանդիսացող ռեսուրսների չնչին գումարներով իգտագործում, այսինքն ռեսուրսների օգտագործման մասով շահագործողները արդեն ստանում են լրացուցիչ արտոնություննե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Միջազգային ցուցանիշներ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Ռուսաստանում այն կազմում է 3.8-8.3%, Կանադայում 10-16%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Չիլին, 5-14%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Կոլումբիայում 4-6%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Հարավային Աֆրիկայում 10 %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Ա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վստրալիայում մինչև 4.5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y-AM" sz="4000" spc="-1" strike="noStrike">
                <a:solidFill>
                  <a:srgbClr val="f3f7fb"/>
                </a:solidFill>
                <a:latin typeface="Garamond"/>
              </a:rPr>
              <a:t>Ն</a:t>
            </a:r>
            <a:r>
              <a:rPr b="1" lang="ru-RU" sz="4000" spc="-1" strike="noStrike">
                <a:solidFill>
                  <a:srgbClr val="f3f7fb"/>
                </a:solidFill>
                <a:latin typeface="Garamond"/>
              </a:rPr>
              <a:t>երկա իրավիճակ- աղտոտում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7fb"/>
                </a:solidFill>
                <a:latin typeface="Garamond"/>
              </a:rPr>
              <a:t>Թա</a:t>
            </a:r>
            <a:r>
              <a:rPr b="0" lang="hy-AM" sz="3200" spc="-1" strike="noStrike">
                <a:solidFill>
                  <a:srgbClr val="f3f7fb"/>
                </a:solidFill>
                <a:latin typeface="Garamond"/>
              </a:rPr>
              <a:t>փոնների տեղադրման համար վճարներ` 4-ից մինչև 1-ին դասի համապատասխանաբար 1500 դրամից մինչև  48 000 դրամ/տոննա դրույքաչափերով, ոչ վտանգավոր թափոնների համար 600 դրամ/տոննա և հողածածկույթի քանդման և շինարարության հետևանքով առաջացած ոչ վտանգավոր թափոնների համար 60 դրամ/տոննա դրույքաչափով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grig</dc:creator>
  <dc:description/>
  <dc:language>en-US</dc:language>
  <cp:lastModifiedBy>Alen Amirkhanian</cp:lastModifiedBy>
  <dcterms:modified xsi:type="dcterms:W3CDTF">2012-11-29T17:22:0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