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7081-7F85-4BD1-9378-4F7A22BDA3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AD5F-DF45-49BA-8A85-A855A8BD34CE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63EC-8883-4A6E-A1DE-C37DEB463DD9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4177-3D81-4EE2-A0EF-383BB30F5EF2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3720-200B-41C2-BE79-2367AEF340D7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1495-BF43-4AD2-AE52-7619073D946E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D15C-4D81-4EDA-9380-DE14AE5712E1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3A06-C73F-4791-92AD-80EA89B71626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29D5-F07E-4E03-A272-9C5597CC6157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A9E7-F18D-4B20-80BC-F1E44CEDBAE3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14F9-492A-4A00-9611-7C59B0BDDB34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75C5-8BD6-429D-B2E6-F72AAD2AEA15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CFD9-3729-4257-81EF-FCB23D3B2CC0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4D40-AFF5-4574-8EBF-067961B9B175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9A77-8F77-4E19-950E-3D056B1FB3A2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F16E-B4F4-43E1-A785-89B1795742AD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F511-A593-434C-8F88-6A546DC8A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5262-B352-4907-898C-701C515F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AE28EB-46BE-421A-9479-E9C407CA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795850-F1BD-4EE0-8144-F05A33E0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224D23-E933-47CF-97A7-1BC2D121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2BCA8A-741C-4769-B358-A2188892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81E25D-5769-4295-B15A-45546ABE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EFAD7B-FB5F-4F4A-990E-FE508541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2DF54B-AAE3-44CF-BF79-BCFA78FC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A32985-77D6-428D-86AB-A75188CCA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438B67-49D9-4ECE-907D-FBF6147C2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2857B8-3B95-4DCE-A9CC-1AE6E2871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54B1-6032-46EB-B123-16C5FB386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39526D-4197-42E6-9B51-9A97A4C1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A8C0F4-EC01-49B4-82CB-3F698051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C0F302-01C4-4A45-BE61-E78E6AD4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735FFA-D7C3-41F6-9E02-329123BD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3169AF-7911-43CD-A8C7-C7250D0F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3CD267-0228-46C0-AB1D-8EBCD8DD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33E7DC-FC24-4BD4-B10E-E666DCC3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DC767A-E59B-44B1-86E8-BB2F548D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200254-A156-41D7-A4E8-5ECEFEEB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22854D-E652-4C1C-B9A3-EBE3EA90E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AA3D-C940-428A-9B3C-8EDF73A72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2EAD28-3AE0-4B76-9530-222EBB915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563CE-4D04-4677-908C-2B6602FC7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9E67DD-9EB4-42B6-A1B4-09D595AA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A3D45-BF0B-40BF-AC94-245E0966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EFDE6-90F1-4D7F-AA77-94030002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D7DF21-E730-4087-821B-89F5238E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8BFA9-7A5B-46B7-A8CE-332B4CCB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DCAE5-2621-4E43-88EA-FF2444E2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AEF710-846C-475E-A7FE-CF72DDFB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36695-2453-4747-90E5-AB9E52B4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254DC-9088-4B45-AAB0-AAF4AF535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B02BB-5741-4368-93BB-07FBEECF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DF59E-D65A-488A-9A2D-58D33EE57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448307-A14F-4D7C-B109-F1175641A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EECE6D-539D-42BD-985C-C47378496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81C36D-D9EB-49A9-8100-AC796573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62690F-0518-41ED-8E36-67BE8E5C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1D7769-6C35-4731-BF13-4DA70702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1C087A-70C7-45E7-BBB3-1ADD6B40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5199F2-B7A6-421C-A563-7E728772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334187-52EF-4227-AAF8-1603B286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ED8B-C554-469C-AB41-1E4CD353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E0708B-EE50-4261-9F94-F2A431E1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F13A60-46A9-4F2B-8181-36C52296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F6725-86FD-4B0F-94EF-3ED4C4D5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A65111-9538-4B59-9049-76FEC766C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A62073-FB76-4832-89D7-B941A8280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C52BA8-04AB-4B33-BFE3-3328F4A57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CCB6B1-27BD-43FB-9646-4B0CF2C0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093C1F-144C-42A7-970C-91B15780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54FFD2-18D9-4650-93DB-960EE813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5803CC-BC02-437C-A7AB-E4B73467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2B3E6-0F31-43DC-A01F-9C3644BE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01613B-CB26-4AED-9D58-1F06DB5D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0F7C91-B637-477C-B11D-E796E74F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8DEC7C-A311-4BE4-B6CE-E721E76E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AD4312-CD34-4B1C-AAA3-B99B4459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6731FD-C056-4CCF-B45F-3E084A7C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474B25-1203-4415-B2B1-CEC55C032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0491DD-0F43-492D-9879-3583BF59F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658F35-6D64-4B5C-911A-0B9104F53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10B072-CC70-42B4-8F04-61C025F8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89272B-749B-4392-A252-99C597F3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9331-8904-4773-B36F-738800DF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C04504-B746-411C-8988-D6A9FF3C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BF0E6B-C5CE-4FE5-98D5-C45D23A7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638F0E-DEF1-4E11-806A-C54FD073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32959C-A483-4D1E-800C-E5145136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99D794-895C-4CEE-A66B-375689FC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DBE714-60D5-4768-9934-29D04CF2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BDD2D1-BC23-4392-B4ED-886EB90D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AC3495-1F48-45C3-9162-874D781AC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A12B30-D897-458A-8A74-87AD5F2B3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809ED5-E08E-493E-81AA-D2FEE8B9D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DE12-198C-444B-84DB-F2F9F9AF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14E8DF-1093-4E8F-ABC3-A662329F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DD58C0-347C-40B3-A5A7-FCE91C34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5CE883-3EFE-4259-8B59-F07576B5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754C28-DBA0-4A37-B1A8-2908C1D4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4D180F-C6F2-4946-9DD7-5F6575EF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5E4712-88C3-4BD3-A255-128F2483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3551CA-DB00-41E7-9C94-FCD38E42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D7FDB2-968A-405A-AF7F-89FD4A54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1C6C1B-C4FD-44F7-97F5-DAB738FE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28F3CF-620B-4765-8517-FD544666E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1273-4EC5-4CF5-B766-79971E34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48ADDF-483E-4D9A-906C-A3250AA47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62E3-3C84-462F-820E-DA401BA9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95D0-6ECD-4106-AD89-310EE1CD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5FDE-8716-4228-BF0F-B01C8B94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3529-561C-4F74-85A8-1CB860F7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A796-FC36-4291-AA1A-A7F69913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ECA2A-4D45-4690-B040-2B95D4F8A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A331C-764E-467C-A4CD-2C0A68D69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2A980-D994-46CA-B9BF-9348D23C0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656F3-070C-4DF6-BFE6-70BBEB13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4626C-73A9-4CD5-B87D-2E402652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D2A50-22E5-4DE4-A55B-597988C1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27914-E733-4958-839D-6ECB35EA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E5FC-CA57-4001-B752-AFFB3287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9D969-85E1-4271-86BB-1027B059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CD7D5-2D84-4C4B-A57D-7CFE5B34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4B9B0-4F36-4A47-A293-0E2E06B6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42E7A-8596-47A3-BC56-3EBE1244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BC29B-5836-4648-A9CF-9C9CC5C6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24F2F-5201-41E9-84FE-F8F39F065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60ABA-CB53-458E-AF29-3DB37835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2D252-E6C6-46DF-BEF1-ED27534A9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1DA11-F755-471A-B71F-3B8D04A4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129E7-85DA-4777-987C-C1DDA2D9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D154-7D56-41C4-BDD0-F0D110A5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6F017-76DB-4BD2-9892-2B53EFFD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8B3B6-6CDC-4063-A214-320AF534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F1976-7E29-44C7-ABC5-77FE6D23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193FA-08D7-45FB-BC3E-FFDDCC50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9FA77-A79D-494B-B905-67D3F2F0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DA3AF-2E75-456F-A4C2-621FA004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FF4A7-A1AC-4FE3-A7C9-EC479F7D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B5108-2751-42EC-A33B-982C2BA6A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36B11-0886-4DFE-8A10-D9430FD4C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3B4BE-2FD3-49E3-847D-1DEF6E93A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F6EB-A841-4C17-A944-1D86DA7B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0A076-1BE0-499B-83F7-C0114ECA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91B10-C7DA-401F-BC06-EDCEB949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32A10-3568-442A-8BBF-5D7B25C6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0032E-EEC9-43F0-8CEA-B20A2EA1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3A4EB-EC58-4CFF-85AD-6949CE1E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942C7-CB5D-41C3-9C5E-5435CD08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5C669-A738-49CD-927C-EA5EF577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54597-F42C-49C3-BE12-9557CFFA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2DFFC-48FE-4B1A-BAB7-691E79C9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261B0-1C23-48E2-B185-ACF749407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4B25-5CF5-4696-A26C-22393806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75462-E620-4C3F-971D-02B4FE316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CE113-38EC-4CAE-A30E-7D7EB2472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7C7B8-9964-40D9-BB6C-0A441FCE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C747A-A5CC-4D2E-BB1B-57FEA0BE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29875-3E9B-4188-B7B5-203F374F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AB049-A5F9-4EE3-82B5-86B46E80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FBB60-8C3F-45D8-A54E-5134A0F4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42784-23A8-4753-94D0-53229A9B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7BDF7-B991-4393-97A5-862361B8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431FC-9ACE-4103-BB8E-1E3BA844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69AE-1324-4B7F-B6AD-5F316073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E3D25-BCE8-40FA-83FF-422B334B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B5E0B-5BF9-4AD3-BA6A-84D708197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F48A6-1E02-466D-B3C9-A08558D32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0F8B0-D25C-4682-8C69-81655607E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B391C-1D50-4E59-BA72-5F3C11A1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3227C-C579-4D8D-85FB-1FA5F074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89C49-8A05-4FD4-9F42-0B8C2128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96155-B88F-4A56-A5E1-C35CC7E6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8E6AE-64DC-4B17-8EEA-A1988E82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3A08C-7DFC-40F4-A773-F77C5988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4601-499D-42E0-B2D6-1A3D693D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02828-FF04-40EB-98BA-C0BB60BC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AD458-36CB-46D4-9ED5-9A6EA7AA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513E5-0017-431F-BF03-4495080F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C4BF1-A7B2-4409-B4F9-23E7F3C25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115B0-529A-4296-9ACB-E832892B1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D4258-E83D-4A5F-B14D-26AFC7DBF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5215D-7A16-4AEA-8C6F-76674D0D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65D76-68EE-4F87-9FA7-7FD48B73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78071-083E-4E51-BD6A-CBB957EE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5B887-6527-4CF9-ADE2-4722ABF8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4C22-686A-4A28-9D00-53CBC121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3F0E1-A20F-4EE0-87AA-F32BB60D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1EC89-6DD0-456D-B3F3-6E780262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65F48-9004-41B8-B070-B36C5245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63500-847D-4C70-92BD-0F06D6CD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8AA53-5257-437B-9976-BC2ADFD0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60546-EAAA-45AD-93A5-60856B283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18B0A-BF3B-403A-B6D9-201E265AF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263FDD-A940-4F36-9997-A2AF063CD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F07C89-13B7-4C51-B98B-EFBBC481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3C6BF3-12E4-44E5-BE18-8F39EADC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3dde8"/>
                </a:gs>
                <a:gs pos="50000">
                  <a:srgbClr val="e0ebf6"/>
                </a:gs>
                <a:gs pos="100000">
                  <a:srgbClr val="d3dd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5f8f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5f8f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0E10-5725-443F-987C-772700A017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77a4a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31894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77a4a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31894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04A5-FFBA-44A8-A949-6F1ACE531BE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77a4a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31894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9A1E-036D-481A-B8C6-CE54DB6909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77a4a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31894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5849-0685-43F6-9687-C4499E47A13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77a4a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31894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03E2-E54B-4163-979F-97EC348CCD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77a4a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31894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4314-8381-4400-B0BF-8AA41436F44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77a4a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31894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288E-DE89-4AD3-B387-02835144A9E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3dde8"/>
                </a:gs>
                <a:gs pos="50000">
                  <a:srgbClr val="e0ebf6"/>
                </a:gs>
                <a:gs pos="100000">
                  <a:srgbClr val="d3dd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5f8f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5f8f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77a4a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31894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DE2B-93BE-44CE-9091-8C718208F5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77a4a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31894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5086-A4DE-4DA0-99F0-877807723FE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77a4a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31894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42B6-76FD-41EB-849F-E54A3CA2E8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77a4a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31894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1F1E-85FF-497A-AF36-53BB26D73F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77a4a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31894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C148-C665-43C4-8699-F317CFB81C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77a4a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31894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3F85-75E5-4A50-8A6F-C1841B4C004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77a4a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31894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50E3-7EA7-42AB-A5F6-0FF465F8685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77a4a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31894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C36F-4898-4471-977F-13207BA7AC9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erikgrig@gmail.com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43000" y="4648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y-AM" sz="2400" spc="-1" strike="noStrike">
                <a:solidFill>
                  <a:srgbClr val="ffffff"/>
                </a:solidFill>
                <a:latin typeface="Garamond"/>
              </a:rPr>
              <a:t>Հանքարդյունաբերություն և սոցիալ-տնտեսական զարգացում. Հայաստանի ընտրուղիները</a:t>
            </a:r>
            <a:br>
              <a:rPr sz="2400"/>
            </a:br>
            <a:r>
              <a:rPr b="1" lang="hy-AM" sz="2400" spc="-1" strike="noStrike">
                <a:solidFill>
                  <a:srgbClr val="ffffff"/>
                </a:solidFill>
                <a:latin typeface="Garamond"/>
              </a:rPr>
              <a:t>Մեկօրյա համաժողով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2400"/>
            </a:br>
            <a:r>
              <a:rPr b="1" lang="hy-AM" sz="1200" spc="-1" strike="noStrike">
                <a:solidFill>
                  <a:srgbClr val="ffffff"/>
                </a:solidFill>
                <a:latin typeface="Garamond"/>
              </a:rPr>
              <a:t>Ուրբաթ, Նոյեմբեր 30, 2012, 9:30-17:30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Հանքարդյունաբերության դերը Հայաստանի տնտեսության մեջ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4400" spc="-1" strike="noStrike">
                <a:solidFill>
                  <a:srgbClr val="161616"/>
                </a:solidFill>
                <a:latin typeface="Times Armenian"/>
              </a:rPr>
              <a:t>	</a:t>
            </a:r>
            <a:r>
              <a:rPr b="1" lang="ru-RU" sz="4400" spc="-1" strike="noStrike">
                <a:solidFill>
                  <a:srgbClr val="161616"/>
                </a:solidFill>
                <a:latin typeface="Times Armenian"/>
              </a:rPr>
              <a:t>	</a:t>
            </a:r>
            <a:r>
              <a:rPr b="1" lang="ru-RU" sz="4400" spc="-1" strike="noStrike">
                <a:solidFill>
                  <a:srgbClr val="161616"/>
                </a:solidFill>
                <a:latin typeface="Times Armenian"/>
              </a:rPr>
              <a:t>	</a:t>
            </a:r>
            <a:r>
              <a:rPr b="1" lang="ru-RU" sz="4400" spc="-1" strike="noStrike">
                <a:solidFill>
                  <a:srgbClr val="161616"/>
                </a:solidFill>
                <a:latin typeface="Times Armenian"/>
              </a:rPr>
              <a:t>	</a:t>
            </a:r>
            <a:r>
              <a:rPr b="1" lang="ru-RU" sz="4400" spc="-1" strike="noStrike">
                <a:solidFill>
                  <a:srgbClr val="161616"/>
                </a:solidFill>
                <a:latin typeface="Times Armenian"/>
              </a:rPr>
              <a:t>	</a:t>
            </a:r>
            <a:r>
              <a:rPr b="0" lang="ru-RU" sz="4400" spc="-1" strike="noStrike">
                <a:solidFill>
                  <a:srgbClr val="161616"/>
                </a:solidFill>
                <a:latin typeface="Times Armeni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imes Armenian"/>
              </a:rPr>
              <a:t>Էրիկ Գրիգորյան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Armen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Armen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Armen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Armen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Armen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Armenian"/>
              </a:rPr>
              <a:t>          </a:t>
            </a:r>
            <a:r>
              <a:rPr b="0" lang="en-US" sz="1800" spc="-1" strike="noStrike" u="sng">
                <a:solidFill>
                  <a:srgbClr val="00ff99"/>
                </a:solidFill>
                <a:uFillTx/>
                <a:latin typeface="Times Armenian"/>
                <a:hlinkClick r:id="rId1"/>
              </a:rPr>
              <a:t>erikgrig@gmail.com</a:t>
            </a:r>
            <a:r>
              <a:rPr b="0" lang="en-US" sz="1800" spc="-1" strike="noStrike">
                <a:solidFill>
                  <a:srgbClr val="ffffff"/>
                </a:solidFill>
                <a:latin typeface="Times Armenian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Armen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Armen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Armen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Armen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Armen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Armenian"/>
              </a:rPr>
              <a:t>        </a:t>
            </a:r>
            <a:r>
              <a:rPr b="0" lang="hy-AM" sz="1800" spc="-1" strike="noStrike">
                <a:solidFill>
                  <a:srgbClr val="ffffff"/>
                </a:solidFill>
                <a:latin typeface="Times Armenian"/>
              </a:rPr>
              <a:t>Հեռ. </a:t>
            </a:r>
            <a:r>
              <a:rPr b="0" lang="en-US" sz="1800" spc="-1" strike="noStrike">
                <a:solidFill>
                  <a:srgbClr val="ffffff"/>
                </a:solidFill>
                <a:latin typeface="Times Armenian"/>
              </a:rPr>
              <a:t>+37455667707</a:t>
            </a:r>
            <a:endParaRPr b="1" lang="en-US" sz="1800" spc="-1" strike="noStrike">
              <a:solidFill>
                <a:srgbClr val="77a4a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y-AM" sz="4000" spc="-1" strike="noStrike">
                <a:solidFill>
                  <a:srgbClr val="f3f7fb"/>
                </a:solidFill>
                <a:latin typeface="Garamond"/>
              </a:rPr>
              <a:t>Ն</a:t>
            </a:r>
            <a:r>
              <a:rPr b="1" lang="ru-RU" sz="4000" spc="-1" strike="noStrike">
                <a:solidFill>
                  <a:srgbClr val="f3f7fb"/>
                </a:solidFill>
                <a:latin typeface="Garamond"/>
              </a:rPr>
              <a:t>երկա իրավիճակ- աղտոտում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f7fb"/>
                </a:solidFill>
                <a:latin typeface="Garamond"/>
              </a:rPr>
              <a:t>ԱՎԾ տվյալներով </a:t>
            </a:r>
            <a:r>
              <a:rPr b="0" lang="hy-AM" sz="3200" spc="-1" strike="noStrike">
                <a:solidFill>
                  <a:srgbClr val="f3f7fb"/>
                </a:solidFill>
                <a:latin typeface="Garamond"/>
              </a:rPr>
              <a:t>արտադրված թափոնների 99.66% </a:t>
            </a:r>
            <a:r>
              <a:rPr b="0" lang="ru-RU" sz="3200" spc="-1" strike="noStrike">
                <a:solidFill>
                  <a:srgbClr val="f3f7fb"/>
                </a:solidFill>
                <a:latin typeface="Garamond"/>
              </a:rPr>
              <a:t>բաժին է ընկնում </a:t>
            </a:r>
            <a:r>
              <a:rPr b="0" lang="hy-AM" sz="3200" spc="-1" strike="noStrike">
                <a:solidFill>
                  <a:srgbClr val="f3f7fb"/>
                </a:solidFill>
                <a:latin typeface="Garamond"/>
              </a:rPr>
              <a:t>Սյունիք</a:t>
            </a:r>
            <a:r>
              <a:rPr b="0" lang="ru-RU" sz="3200" spc="-1" strike="noStrike">
                <a:solidFill>
                  <a:srgbClr val="f3f7fb"/>
                </a:solidFill>
                <a:latin typeface="Garamond"/>
              </a:rPr>
              <a:t>իմարզին, որը չի հարկվում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f7fb"/>
                </a:solidFill>
                <a:latin typeface="Garamond"/>
              </a:rPr>
              <a:t>Ամենացածր դրույքաչաի դեպքում</a:t>
            </a:r>
            <a:r>
              <a:rPr b="0" lang="hy-AM" sz="3200" spc="-1" strike="noStrike">
                <a:solidFill>
                  <a:srgbClr val="f3f7fb"/>
                </a:solidFill>
                <a:latin typeface="Garamond"/>
              </a:rPr>
              <a:t> առնվազն 10 մլրդ. դրամ գումար, այսինքն </a:t>
            </a:r>
            <a:r>
              <a:rPr b="0" lang="ru-RU" sz="3200" spc="-1" strike="noStrike">
                <a:solidFill>
                  <a:srgbClr val="f3f7fb"/>
                </a:solidFill>
                <a:latin typeface="Garamond"/>
              </a:rPr>
              <a:t>մոտավորապես այն</a:t>
            </a:r>
            <a:r>
              <a:rPr b="0" lang="hy-AM" sz="3200" spc="-1" strike="noStrike">
                <a:solidFill>
                  <a:srgbClr val="f3f7fb"/>
                </a:solidFill>
                <a:latin typeface="Garamond"/>
              </a:rPr>
              <a:t>քան</a:t>
            </a:r>
            <a:r>
              <a:rPr b="0" lang="ru-RU" sz="3200" spc="-1" strike="noStrike">
                <a:solidFill>
                  <a:srgbClr val="f3f7fb"/>
                </a:solidFill>
                <a:latin typeface="Garamond"/>
              </a:rPr>
              <a:t>, որքան </a:t>
            </a:r>
            <a:r>
              <a:rPr b="0" lang="hy-AM" sz="3200" spc="-1" strike="noStrike">
                <a:solidFill>
                  <a:srgbClr val="f3f7fb"/>
                </a:solidFill>
                <a:latin typeface="Garamond"/>
              </a:rPr>
              <a:t>Հայաստանում </a:t>
            </a:r>
            <a:r>
              <a:rPr b="0" lang="en-US" sz="3200" spc="-1" strike="noStrike">
                <a:solidFill>
                  <a:srgbClr val="f3f7fb"/>
                </a:solidFill>
                <a:latin typeface="Garamond"/>
              </a:rPr>
              <a:t>2010 </a:t>
            </a:r>
            <a:r>
              <a:rPr b="0" lang="hy-AM" sz="3200" spc="-1" strike="noStrike">
                <a:solidFill>
                  <a:srgbClr val="f3f7fb"/>
                </a:solidFill>
                <a:latin typeface="Garamond"/>
              </a:rPr>
              <a:t>հավաքագրված բոլոր բնապահպանական և բնօգտագործման վճարները միասին վերցված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y-AM" sz="4000" spc="-1" strike="noStrike">
                <a:solidFill>
                  <a:srgbClr val="f3f7fb"/>
                </a:solidFill>
                <a:latin typeface="Garamond"/>
              </a:rPr>
              <a:t>Ն</a:t>
            </a:r>
            <a:r>
              <a:rPr b="1" lang="ru-RU" sz="4000" spc="-1" strike="noStrike">
                <a:solidFill>
                  <a:srgbClr val="f3f7fb"/>
                </a:solidFill>
                <a:latin typeface="Garamond"/>
              </a:rPr>
              <a:t>երկա իրավիճակ- աղտոտում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y-AM" sz="3200" spc="-1" strike="noStrike">
                <a:solidFill>
                  <a:srgbClr val="f3f7fb"/>
                </a:solidFill>
                <a:latin typeface="Garamond"/>
              </a:rPr>
              <a:t>Մ</a:t>
            </a:r>
            <a:r>
              <a:rPr b="0" lang="ru-RU" sz="3200" spc="-1" strike="noStrike">
                <a:solidFill>
                  <a:srgbClr val="f3f7fb"/>
                </a:solidFill>
                <a:latin typeface="Garamond"/>
              </a:rPr>
              <a:t>թնոլորտային օդի աղտոտման ծավալները հաշվարկվում են ՍԹԽ վրա հիմնված բանաձևերով, ինչի հետևանքով օրինակ Ալավերդու պղնձաձուլարանի ծծմբի երկօքսիդի արտանետումերի նույն ծավալի դեպքում վճարում են ավելի քիչ գումար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f7fb"/>
                </a:solidFill>
                <a:latin typeface="Garamond"/>
              </a:rPr>
              <a:t>Հայաստանում </a:t>
            </a:r>
            <a:r>
              <a:rPr b="0" lang="hy-AM" sz="3200" spc="-1" strike="noStrike">
                <a:solidFill>
                  <a:srgbClr val="f3f7fb"/>
                </a:solidFill>
                <a:latin typeface="Garamond"/>
              </a:rPr>
              <a:t>SO2 </a:t>
            </a:r>
            <a:r>
              <a:rPr b="0" lang="en-US" sz="3200" spc="-1" strike="noStrike">
                <a:solidFill>
                  <a:srgbClr val="f3f7fb"/>
                </a:solidFill>
                <a:latin typeface="Garamond"/>
              </a:rPr>
              <a:t>տոննա </a:t>
            </a:r>
            <a:r>
              <a:rPr b="0" lang="ru-RU" sz="3200" spc="-1" strike="noStrike">
                <a:solidFill>
                  <a:srgbClr val="f3f7fb"/>
                </a:solidFill>
                <a:latin typeface="Garamond"/>
              </a:rPr>
              <a:t>1800 </a:t>
            </a:r>
            <a:r>
              <a:rPr b="0" lang="hy-AM" sz="3200" spc="-1" strike="noStrike">
                <a:solidFill>
                  <a:srgbClr val="f3f7fb"/>
                </a:solidFill>
                <a:latin typeface="Garamond"/>
              </a:rPr>
              <a:t>դրամ, </a:t>
            </a:r>
            <a:r>
              <a:rPr b="0" lang="en-US" sz="3200" spc="-1" strike="noStrike">
                <a:solidFill>
                  <a:srgbClr val="f3f7fb"/>
                </a:solidFill>
                <a:latin typeface="Garamond"/>
              </a:rPr>
              <a:t>սակայն վնասը </a:t>
            </a:r>
            <a:r>
              <a:rPr b="0" lang="ru-RU" sz="3200" spc="-1" strike="noStrike">
                <a:solidFill>
                  <a:srgbClr val="f3f7fb"/>
                </a:solidFill>
                <a:latin typeface="Garamond"/>
              </a:rPr>
              <a:t>1400-39000 </a:t>
            </a:r>
            <a:r>
              <a:rPr b="0" lang="hy-AM" sz="3200" spc="-1" strike="noStrike">
                <a:solidFill>
                  <a:srgbClr val="f3f7fb"/>
                </a:solidFill>
                <a:latin typeface="Garamond"/>
              </a:rPr>
              <a:t>եվրո </a:t>
            </a:r>
            <a:r>
              <a:rPr b="0" lang="en-US" sz="3200" spc="-1" strike="noStrike">
                <a:solidFill>
                  <a:srgbClr val="f3f7fb"/>
                </a:solidFill>
                <a:latin typeface="Garamond"/>
              </a:rPr>
              <a:t>(Clean air for Europe data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y-AM" sz="4000" spc="-1" strike="noStrike">
                <a:solidFill>
                  <a:srgbClr val="f3f7fb"/>
                </a:solidFill>
                <a:latin typeface="Garamond"/>
              </a:rPr>
              <a:t>Առաջարկներ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3f7fb"/>
                </a:solidFill>
                <a:latin typeface="Garamond"/>
              </a:rPr>
              <a:t>Լեռնամետալուրգիայի թափոնները պետք է դասակարգվեն և մտցվեն հարկման դաշտ</a:t>
            </a:r>
            <a:r>
              <a:rPr b="0" lang="hy-AM" sz="2800" spc="-1" strike="noStrike">
                <a:solidFill>
                  <a:srgbClr val="f3f7fb"/>
                </a:solidFill>
                <a:latin typeface="Garamond"/>
              </a:rPr>
              <a:t>` պահովելով լրացուցիչ ֆինանսական միջոցներ և հանդիսանալով ռեսուրսների ռացիոնալ օգտագործման գործիք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y-AM" sz="2800" spc="-1" strike="noStrike">
                <a:solidFill>
                  <a:srgbClr val="f3f7fb"/>
                </a:solidFill>
                <a:latin typeface="Garamond"/>
              </a:rPr>
              <a:t>Ռոյալթիները պետք է ոչ թե փոխարինեն բնօգտագործման վճարներին, այլ` լրացնեն, առնվազն առաջիկա տարիների համար այս երկու վճարատեսակները պետք է հանդես գան միասին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y-AM" sz="4000" spc="-1" strike="noStrike">
                <a:solidFill>
                  <a:srgbClr val="f3f7fb"/>
                </a:solidFill>
                <a:latin typeface="Garamond"/>
              </a:rPr>
              <a:t>Առաջարկներ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y-AM" sz="2800" spc="-1" strike="noStrike">
                <a:solidFill>
                  <a:srgbClr val="f3f7fb"/>
                </a:solidFill>
                <a:latin typeface="Garamond"/>
              </a:rPr>
              <a:t>Բնօգտագործման վճարների դրույքաչափերը պետք է հիմնված լինեն ռեսուրսների շուկայական գների վրա, իսկ դրանց բացակայության դեպքում` էկոլոգո-տնտեսական հաշվարկների հիման վրա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y-AM" sz="2800" spc="-1" strike="noStrike">
                <a:solidFill>
                  <a:srgbClr val="f3f7fb"/>
                </a:solidFill>
                <a:latin typeface="Garamond"/>
              </a:rPr>
              <a:t>Բնապահպանական վճարների դրույքաչափերը պետք է հիմնված լինեն շրջակա միջավայրին, մարդու առողջությանը հասցված իրական վնասի գնահատման հիման վրա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y-AM" sz="4400" spc="-1" strike="noStrike">
                <a:solidFill>
                  <a:srgbClr val="f3f7fb"/>
                </a:solidFill>
                <a:latin typeface="Garamond"/>
              </a:rPr>
              <a:t>Առաջարկներ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y-AM" sz="3200" spc="-1" strike="noStrike">
                <a:solidFill>
                  <a:srgbClr val="f3f7fb"/>
                </a:solidFill>
                <a:latin typeface="Garamond"/>
              </a:rPr>
              <a:t>Հանքանյութի, խտանյութը, ձուլվածքը և բնական ռեսուրսից ստացված վերջնական ապրանքը արտահանվելիս պարտադիր պետք է մաքսազերծվեն` ընդ որում արտադրական ամեն հաջորդ փուլի դեպքում ավելի ցածր դրույքաչափով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y-AM" sz="3200" spc="-1" strike="noStrike">
                <a:solidFill>
                  <a:srgbClr val="f3f7fb"/>
                </a:solidFill>
                <a:latin typeface="Garamond"/>
              </a:rPr>
              <a:t>Աղտոտման ծավալների հաշվարկի փոփոխություն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y-AM" sz="3200" spc="-1" strike="noStrike">
                <a:solidFill>
                  <a:srgbClr val="f3f7fb"/>
                </a:solidFill>
                <a:latin typeface="Garamond"/>
              </a:rPr>
              <a:t>Շնորհակալություն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y-AM" sz="3200" spc="-1" strike="noStrike">
                <a:solidFill>
                  <a:srgbClr val="f3f7fb"/>
                </a:solidFill>
                <a:latin typeface="Garamond"/>
              </a:rPr>
              <a:t>ուշադրության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y-AM" sz="3200" spc="-1" strike="noStrike">
                <a:solidFill>
                  <a:srgbClr val="f3f7fb"/>
                </a:solidFill>
                <a:latin typeface="Garamond"/>
              </a:rPr>
              <a:t>համար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3f7fb"/>
                </a:solidFill>
                <a:latin typeface="Garamond"/>
              </a:rPr>
              <a:t>Տնտեսական մեխանիզմները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3f7fb"/>
                </a:solidFill>
                <a:latin typeface="Garamond"/>
              </a:rPr>
              <a:t>Բնապահպանական վճարների մասով` օդի </a:t>
            </a:r>
            <a:r>
              <a:rPr b="0" lang="hy-AM" sz="2800" spc="-1" strike="noStrike">
                <a:solidFill>
                  <a:srgbClr val="f3f7fb"/>
                </a:solidFill>
                <a:latin typeface="Garamond"/>
              </a:rPr>
              <a:t>(</a:t>
            </a:r>
            <a:r>
              <a:rPr b="0" lang="en-US" sz="2800" spc="-1" strike="noStrike">
                <a:solidFill>
                  <a:srgbClr val="f3f7fb"/>
                </a:solidFill>
                <a:latin typeface="Garamond"/>
              </a:rPr>
              <a:t>շարժական և անշարժ աղբյուրներից</a:t>
            </a:r>
            <a:r>
              <a:rPr b="0" lang="hy-AM" sz="2800" spc="-1" strike="noStrike">
                <a:solidFill>
                  <a:srgbClr val="f3f7fb"/>
                </a:solidFill>
                <a:latin typeface="Garamond"/>
              </a:rPr>
              <a:t>)</a:t>
            </a:r>
            <a:r>
              <a:rPr b="0" lang="en-US" sz="2800" spc="-1" strike="noStrike">
                <a:solidFill>
                  <a:srgbClr val="f3f7fb"/>
                </a:solidFill>
                <a:latin typeface="Garamond"/>
              </a:rPr>
              <a:t>,</a:t>
            </a:r>
            <a:r>
              <a:rPr b="0" lang="ru-RU" sz="2800" spc="-1" strike="noStrike">
                <a:solidFill>
                  <a:srgbClr val="f3f7fb"/>
                </a:solidFill>
                <a:latin typeface="Garamond"/>
              </a:rPr>
              <a:t> ջրի աղտոտւմ, շրջակա միջավայրին վնաս պատճառող ապրանքներ</a:t>
            </a:r>
            <a:r>
              <a:rPr b="0" lang="en-US" sz="2800" spc="-1" strike="noStrike">
                <a:solidFill>
                  <a:srgbClr val="f3f7fb"/>
                </a:solidFill>
                <a:latin typeface="Garamond"/>
              </a:rPr>
              <a:t> արտադրություն և օգտագործում</a:t>
            </a:r>
            <a:r>
              <a:rPr b="0" lang="ru-RU" sz="2800" spc="-1" strike="noStrike">
                <a:solidFill>
                  <a:srgbClr val="f3f7fb"/>
                </a:solidFill>
                <a:latin typeface="Garamond"/>
              </a:rPr>
              <a:t>, թափոնների տեղադրում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y-AM" sz="2800" spc="-1" strike="noStrike">
                <a:solidFill>
                  <a:srgbClr val="f3f7fb"/>
                </a:solidFill>
                <a:latin typeface="Garamond"/>
              </a:rPr>
              <a:t>Բ</a:t>
            </a:r>
            <a:r>
              <a:rPr b="0" lang="ru-RU" sz="2800" spc="-1" strike="noStrike">
                <a:solidFill>
                  <a:srgbClr val="f3f7fb"/>
                </a:solidFill>
                <a:latin typeface="Garamond"/>
              </a:rPr>
              <a:t>նօգտգագործման վճարների մասով` ստորերկրյա բնական ռեսուրսների, ջրերի և կենսառեսուրսների օգտագործում</a:t>
            </a:r>
            <a:r>
              <a:rPr b="0" lang="en-US" sz="2800" spc="-1" strike="noStrike">
                <a:solidFill>
                  <a:srgbClr val="f3f7fb"/>
                </a:solidFill>
                <a:latin typeface="Garamond"/>
              </a:rPr>
              <a:t>, </a:t>
            </a:r>
            <a:r>
              <a:rPr b="0" lang="ru-RU" sz="2800" spc="-1" strike="noStrike">
                <a:solidFill>
                  <a:srgbClr val="f3f7fb"/>
                </a:solidFill>
                <a:latin typeface="Garamond"/>
              </a:rPr>
              <a:t>ռոյալթիներ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y-AM" sz="4400" spc="-1" strike="noStrike">
                <a:solidFill>
                  <a:srgbClr val="f3f7fb"/>
                </a:solidFill>
                <a:latin typeface="Garamond"/>
              </a:rPr>
              <a:t>Հավաքագրման տվյալներ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y-AM" sz="2800" spc="-1" strike="noStrike">
                <a:solidFill>
                  <a:srgbClr val="f3f7fb"/>
                </a:solidFill>
                <a:latin typeface="Garamond"/>
              </a:rPr>
              <a:t>2012 թվականի հունվար-հուլիսին 13.3 մլրդ դրամ բնօգտագործման և բնապահպանական վճարներ` կազմելով հարկերի և տուրքերի 3.3%-ը: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y-AM" sz="2800" spc="-1" strike="noStrike">
                <a:solidFill>
                  <a:srgbClr val="f3f7fb"/>
                </a:solidFill>
                <a:latin typeface="Garamond"/>
              </a:rPr>
              <a:t>Նախորդ տարվա նույն ժամանակահատվածի համեմատ աճել են 81.3%-ով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y-AM" sz="2800" spc="-1" strike="noStrike">
                <a:solidFill>
                  <a:srgbClr val="f3f7fb"/>
                </a:solidFill>
                <a:latin typeface="Garamond"/>
              </a:rPr>
              <a:t>Պայմանավորված «Բնապահպանական և բնօգտագործման վճարների մասին» ՀՀ օրենքում, ինչպես նաև զուգահեռաբար «Ընդերքի մասին» ՀՀ օրենսգրքում կատարված փոփոխություններով,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3f7fb"/>
                </a:solidFill>
                <a:latin typeface="Garamond"/>
              </a:rPr>
              <a:t>Ռոյալթիներ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3f7fb"/>
                </a:solidFill>
                <a:latin typeface="Garamond"/>
              </a:rPr>
              <a:t>Բազմաթիվ երկրներում բնօգտագործման վճարը կիրառվում է ռոյալթիի հետ մեկտեղ, որտեղ բնօգտագործման վճարը համարվում է ռեսուրսի օգտագործման վճար, իսկ ռոյալթին` գերշահույթներ ապահովող ոլորտից վճարվող լրացուցիչ հարկատեսակ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3f7fb"/>
                </a:solidFill>
                <a:latin typeface="Garamond"/>
              </a:rPr>
              <a:t>Հայասանում միայն Ռոյալթի, որը չի խրախուսում ռացիոնալ օգտագործումը, էական չէ ինչքան ռեսուրս են արդյունահանում, էական է հասույթի գինը 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3f7fb"/>
                </a:solidFill>
                <a:latin typeface="Garamond"/>
              </a:rPr>
              <a:t>Օգուտներ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f7fb"/>
                </a:solidFill>
                <a:latin typeface="Garamond"/>
              </a:rPr>
              <a:t>Ուղղակի և անուղղակի հարկեր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y-AM" sz="3200" spc="-1" strike="noStrike">
                <a:solidFill>
                  <a:srgbClr val="f3f7fb"/>
                </a:solidFill>
                <a:latin typeface="Garamond"/>
              </a:rPr>
              <a:t>Ս</a:t>
            </a:r>
            <a:r>
              <a:rPr b="0" lang="ru-RU" sz="3200" spc="-1" strike="noStrike">
                <a:solidFill>
                  <a:srgbClr val="f3f7fb"/>
                </a:solidFill>
                <a:latin typeface="Garamond"/>
              </a:rPr>
              <a:t>ոցիալական փոփոխություններ և աշխատավարձեր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y-AM" sz="3200" spc="-1" strike="noStrike">
                <a:solidFill>
                  <a:srgbClr val="f3f7fb"/>
                </a:solidFill>
                <a:latin typeface="Garamond"/>
              </a:rPr>
              <a:t>Տ</a:t>
            </a:r>
            <a:r>
              <a:rPr b="0" lang="ru-RU" sz="3200" spc="-1" strike="noStrike">
                <a:solidFill>
                  <a:srgbClr val="f3f7fb"/>
                </a:solidFill>
                <a:latin typeface="Garamond"/>
              </a:rPr>
              <a:t>նտեսության մեջ բազմապատկիչի դեր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y-AM" sz="3200" spc="-1" strike="noStrike">
                <a:solidFill>
                  <a:srgbClr val="f3f7fb"/>
                </a:solidFill>
                <a:latin typeface="Garamond"/>
              </a:rPr>
              <a:t>Հ</a:t>
            </a:r>
            <a:r>
              <a:rPr b="0" lang="ru-RU" sz="3200" spc="-1" strike="noStrike">
                <a:solidFill>
                  <a:srgbClr val="f3f7fb"/>
                </a:solidFill>
                <a:latin typeface="Garamond"/>
              </a:rPr>
              <a:t>արակից ճյուղերի զարգացման միտումներ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3f7fb"/>
                </a:solidFill>
                <a:latin typeface="Garamond"/>
              </a:rPr>
              <a:t>Վնասներ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f7fb"/>
                </a:solidFill>
                <a:latin typeface="Garamond"/>
              </a:rPr>
              <a:t>Շրջակա միջավայրին հասցված վնաս, որը հետագայում ծանրանում է հանրության վրա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y-AM" sz="3200" spc="-1" strike="noStrike">
                <a:solidFill>
                  <a:srgbClr val="f3f7fb"/>
                </a:solidFill>
                <a:latin typeface="Garamond"/>
              </a:rPr>
              <a:t>Ռ</a:t>
            </a:r>
            <a:r>
              <a:rPr b="0" lang="ru-RU" sz="3200" spc="-1" strike="noStrike">
                <a:solidFill>
                  <a:srgbClr val="f3f7fb"/>
                </a:solidFill>
                <a:latin typeface="Garamond"/>
              </a:rPr>
              <a:t>եսուրսների գերշահագործում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f7fb"/>
                </a:solidFill>
                <a:latin typeface="Garamond"/>
              </a:rPr>
              <a:t>Առողջապահապան խնդիրներ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y-AM" sz="3200" spc="-1" strike="noStrike">
                <a:solidFill>
                  <a:srgbClr val="f3f7fb"/>
                </a:solidFill>
                <a:latin typeface="Garamond"/>
              </a:rPr>
              <a:t>Գ</a:t>
            </a:r>
            <a:r>
              <a:rPr b="0" lang="ru-RU" sz="3200" spc="-1" strike="noStrike">
                <a:solidFill>
                  <a:srgbClr val="f3f7fb"/>
                </a:solidFill>
                <a:latin typeface="Garamond"/>
              </a:rPr>
              <a:t>յուղատնտեսության և տուրիզմի զարգացման  խոչընդոտներ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y-AM" sz="4000" spc="-1" strike="noStrike">
                <a:solidFill>
                  <a:srgbClr val="f3f7fb"/>
                </a:solidFill>
                <a:latin typeface="Garamond"/>
              </a:rPr>
              <a:t>Ն</a:t>
            </a:r>
            <a:r>
              <a:rPr b="1" lang="ru-RU" sz="4000" spc="-1" strike="noStrike">
                <a:solidFill>
                  <a:srgbClr val="f3f7fb"/>
                </a:solidFill>
                <a:latin typeface="Garamond"/>
              </a:rPr>
              <a:t>երկա իրավիճակ- օգտագործում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y-AM" sz="3200" spc="-1" strike="noStrike">
                <a:solidFill>
                  <a:srgbClr val="f3f7fb"/>
                </a:solidFill>
                <a:latin typeface="Garamond"/>
              </a:rPr>
              <a:t>Հ</a:t>
            </a:r>
            <a:r>
              <a:rPr b="0" lang="ru-RU" sz="3200" spc="-1" strike="noStrike">
                <a:solidFill>
                  <a:srgbClr val="f3f7fb"/>
                </a:solidFill>
                <a:latin typeface="Garamond"/>
              </a:rPr>
              <a:t>անքարդյունաբերության ոլորտի արտոնյալ վիճակ, ինչը նշանակում է, որ հասարակության բացառիկ սեփականությունը հանդիսացող ռեսուրսների չնչին գումարներով իգտագործում, այսինքն ռեսուրսների օգտագործման մասով շահագործողները արդեն ստանում են լրացուցիչ արտոնություններ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y-AM" sz="4000" spc="-1" strike="noStrike">
                <a:solidFill>
                  <a:srgbClr val="f3f7fb"/>
                </a:solidFill>
                <a:latin typeface="Garamond"/>
              </a:rPr>
              <a:t>Միջազգային ցուցանիշներ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y-AM" sz="3200" spc="-1" strike="noStrike">
                <a:solidFill>
                  <a:srgbClr val="f3f7fb"/>
                </a:solidFill>
                <a:latin typeface="Garamond"/>
              </a:rPr>
              <a:t>Ռուսաստանում այն կազմում է 3.8-8.3%, Կանադայում 10-16%,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y-AM" sz="3200" spc="-1" strike="noStrike">
                <a:solidFill>
                  <a:srgbClr val="f3f7fb"/>
                </a:solidFill>
                <a:latin typeface="Garamond"/>
              </a:rPr>
              <a:t>Չիլին, 5-14%,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y-AM" sz="3200" spc="-1" strike="noStrike">
                <a:solidFill>
                  <a:srgbClr val="f3f7fb"/>
                </a:solidFill>
                <a:latin typeface="Garamond"/>
              </a:rPr>
              <a:t>Կոլումբիայում 4-6%,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y-AM" sz="3200" spc="-1" strike="noStrike">
                <a:solidFill>
                  <a:srgbClr val="f3f7fb"/>
                </a:solidFill>
                <a:latin typeface="Garamond"/>
              </a:rPr>
              <a:t>Հարավային Աֆրիկայում 10 %,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f7fb"/>
                </a:solidFill>
                <a:latin typeface="Garamond"/>
              </a:rPr>
              <a:t>Ա</a:t>
            </a:r>
            <a:r>
              <a:rPr b="0" lang="hy-AM" sz="3200" spc="-1" strike="noStrike">
                <a:solidFill>
                  <a:srgbClr val="f3f7fb"/>
                </a:solidFill>
                <a:latin typeface="Garamond"/>
              </a:rPr>
              <a:t>վստրալիայում մինչև 4.5%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y-AM" sz="4000" spc="-1" strike="noStrike">
                <a:solidFill>
                  <a:srgbClr val="f3f7fb"/>
                </a:solidFill>
                <a:latin typeface="Garamond"/>
              </a:rPr>
              <a:t>Ն</a:t>
            </a:r>
            <a:r>
              <a:rPr b="1" lang="ru-RU" sz="4000" spc="-1" strike="noStrike">
                <a:solidFill>
                  <a:srgbClr val="f3f7fb"/>
                </a:solidFill>
                <a:latin typeface="Garamond"/>
              </a:rPr>
              <a:t>երկա իրավիճակ- աղտոտում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f7fb"/>
                </a:solidFill>
                <a:latin typeface="Garamond"/>
              </a:rPr>
              <a:t>Թա</a:t>
            </a:r>
            <a:r>
              <a:rPr b="0" lang="hy-AM" sz="3200" spc="-1" strike="noStrike">
                <a:solidFill>
                  <a:srgbClr val="f3f7fb"/>
                </a:solidFill>
                <a:latin typeface="Garamond"/>
              </a:rPr>
              <a:t>փոնների տեղադրման համար վճարներ` 4-ից մինչև 1-ին դասի համապատասխանաբար 1500 դրամից մինչև  48 000 դրամ/տոննա դրույքաչափերով, ոչ վտանգավոր թափոնների համար 600 դրամ/տոննա և հողածածկույթի քանդման և շինարարության հետևանքով առաջացած ոչ վտանգավոր թափոնների համար 60 դրամ/տոննա դրույքաչափով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kgrig</dc:creator>
  <dc:description/>
  <dc:language>en-US</dc:language>
  <cp:lastModifiedBy>Alen Amirkhanian</cp:lastModifiedBy>
  <dcterms:modified xsi:type="dcterms:W3CDTF">2012-11-29T17:22:03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